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300-1963-4456-B1B9-3899131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374-2A5D-4C96-AB50-D1E6798A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DAF-6356-4582-B240-73F0FC25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3E0-0835-415C-A436-D2FED0D5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89AC-0F99-4B7F-BFA2-BD0C38E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1D9-CC53-4E56-B2B6-74088B9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75B2-DA0B-44B4-BF34-02C7CFF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DBE4-344A-42D3-8FF2-C6CACDE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7F9-9A91-42FD-9436-A73C491D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66EB-D30A-4A3A-94FC-FA0FB25C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87D-0CF6-47B3-87FE-CF988FF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89F-C0BF-4A44-ADED-636EF40B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155-A864-4C94-BAB9-5C2945E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61B5-F6FA-498F-BCAA-AA2E314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0B1-C139-415A-8565-4FB7397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1080-1BD9-45CE-985B-3DE5124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7DF-538E-4E0F-B006-E5C3766B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D934-C758-4536-A234-8739A7A8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1EAF-A69E-45B6-ABC9-4750B588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0B79-12B6-4157-86DE-F5ADB72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6F44-D05C-4B9E-A131-CADA8182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C0A2-D919-4152-99AC-8B423C64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987-DF6F-49A6-B5B7-478C690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3714-3AF9-48E0-AE7F-CB4244F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6B6D-A443-4415-A73F-415BE11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7BD4-F647-484E-9BE6-B07CD41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CA77-9E6C-4415-8C0A-1A3CCC2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A7FD-25EB-49B3-8BC8-739FE48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1B90-1E59-4786-BE2E-03F3E480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A545-8A50-47A3-8131-2DE19C15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86DA-A863-4358-A074-83175B96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71B5-7408-42FD-9C5B-E8D6878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7757-1332-44FC-A8A6-C42B4D1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369-014B-43E3-88DF-BED7077C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81AD-0431-4A05-BBF5-C342AA31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FBE5-DC0A-4D75-9F49-9416FEE3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EA7B-48C9-463D-81D7-494A3DE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3195-30A9-49F9-8898-6C14451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F7F9-5A48-4710-A34D-63F9DD9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3987-1AFE-4D55-B4FE-7D13464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7D55-740A-4E3C-A99D-AC20CEF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D06E-6DCC-4780-BFF0-144A01F4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9893-3B6B-4BE9-8B6D-4918ED0A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53CA-0101-4767-9D94-3236EF6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8FD-4495-4907-AE7A-EC3CE47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4380-6F50-44A0-B6CC-657AF6F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126B-C318-4566-B4AB-4A4D382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22BF-0EBA-4491-8069-8684A511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F359-9DF5-440D-8954-B85671C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2626-6543-4A5F-A55A-F7AAD55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2FFD0-3D89-4BFE-8127-2EB43DF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A562-6AAF-454A-BA6A-89A682C9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EB0A-8E9C-44CB-82E1-7011E3C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61EA-5DE2-427A-9894-D241456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7F1C-1481-487D-A9EA-AE6CEED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265-4364-4916-82AE-19D1E1D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DDC2-BB0F-45BA-AB2F-1D070E6E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F5E-8CAE-48C2-8725-175AF0E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FAC-F14F-46A1-B389-4419723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03E-C04B-4898-8E35-1F4A4AC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0479-3405-4EF1-B448-3AA3A631662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847B-508A-4FAD-90DE-DEA425860A5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412-CEA1-4841-8430-E85E1BA6531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513E-6857-4DF0-8CE0-4EBCF27B602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DF43-E852-4E5E-91FD-5CDF6BAB17C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6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11280" y="151416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ез прошл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ет настояще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 нет будущег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85c55b4e2c4b"/>
          <p:cNvPicPr/>
          <p:nvPr/>
        </p:nvPicPr>
        <p:blipFill>
          <a:blip r:embed="rId1"/>
          <a:stretch/>
        </p:blipFill>
        <p:spPr>
          <a:xfrm>
            <a:off x="324000" y="4005360"/>
            <a:ext cx="2296800" cy="249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b8597b9ee0bt"/>
          <p:cNvPicPr/>
          <p:nvPr/>
        </p:nvPicPr>
        <p:blipFill>
          <a:blip r:embed="rId2"/>
          <a:stretch/>
        </p:blipFill>
        <p:spPr>
          <a:xfrm>
            <a:off x="6745320" y="0"/>
            <a:ext cx="2198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117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2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1214280" y="1571760"/>
            <a:ext cx="6762960" cy="21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Рисунок 4" descr="http://housens.ru/photo/3d/3d9011be09421635bdfb31fd74e8ac04.jpg"/>
          <p:cNvPicPr/>
          <p:nvPr/>
        </p:nvPicPr>
        <p:blipFill>
          <a:blip r:embed="rId1"/>
          <a:stretch/>
        </p:blipFill>
        <p:spPr>
          <a:xfrm>
            <a:off x="928800" y="785880"/>
            <a:ext cx="2038320" cy="2354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https://st4.depositphotos.com/8871012/19754/i/1600/depositphotos_197549768-stock-photo-horseshoe-door-symbol-happiness-prosperity.jpg"/>
          <p:cNvPicPr/>
          <p:nvPr/>
        </p:nvPicPr>
        <p:blipFill>
          <a:blip r:embed="rId2"/>
          <a:stretch/>
        </p:blipFill>
        <p:spPr>
          <a:xfrm>
            <a:off x="4929120" y="6429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http://interiorspace.ru/photo/34/34cca15ab20f518ebb1bb4687a4e9407.jpg"/>
          <p:cNvPicPr/>
          <p:nvPr/>
        </p:nvPicPr>
        <p:blipFill>
          <a:blip r:embed="rId3"/>
          <a:stretch/>
        </p:blipFill>
        <p:spPr>
          <a:xfrm>
            <a:off x="785880" y="2762280"/>
            <a:ext cx="3286080" cy="28940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https://www.slavyarmarka.ru/image/cache/data/2018/02/03-900x900.jpg"/>
          <p:cNvPicPr/>
          <p:nvPr/>
        </p:nvPicPr>
        <p:blipFill>
          <a:blip r:embed="rId4"/>
          <a:stretch/>
        </p:blipFill>
        <p:spPr>
          <a:xfrm>
            <a:off x="5357880" y="3214800"/>
            <a:ext cx="2409840" cy="24098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295200" y="142920"/>
            <a:ext cx="8848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47840" y="295200"/>
            <a:ext cx="88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63226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476280"/>
            <a:ext cx="8183520" cy="581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создания оберег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нельзя делать оберег для себ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- нельзя заставлять или упрашивать другого человека сделать обере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наибольшей силой обладают обереги, сделанные кровными родственник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- внимательно выбирайте материал, из которого изготавливается обере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- когда будете создавать оберег, постоянно думайте о том человеке, кому он предназнача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1317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Рисунок 4" descr="http://ds61.detkin-club.ru/editor/37/images/%D0%94%D0%BB%D1%8F%D0%B3%D1%80%D1%83%D0%BF%D0%BF/2291139e52b85e6ed047f3ecc8d86505.png"/>
          <p:cNvPicPr/>
          <p:nvPr/>
        </p:nvPicPr>
        <p:blipFill>
          <a:blip r:embed="rId1"/>
          <a:stretch/>
        </p:blipFill>
        <p:spPr>
          <a:xfrm>
            <a:off x="4714920" y="500040"/>
            <a:ext cx="1500120" cy="1357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5" descr="https://static2.kupivip.kz/V0/01/79/79/12/taching-dekor_perchiki_chili-1b.jpg"/>
          <p:cNvPicPr/>
          <p:nvPr/>
        </p:nvPicPr>
        <p:blipFill>
          <a:blip r:embed="rId2"/>
          <a:stretch/>
        </p:blipFill>
        <p:spPr>
          <a:xfrm>
            <a:off x="7143840" y="500040"/>
            <a:ext cx="1093680" cy="16430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9"/>
          <p:cNvSpPr/>
          <p:nvPr/>
        </p:nvSpPr>
        <p:spPr>
          <a:xfrm>
            <a:off x="6572160" y="2214720"/>
            <a:ext cx="21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ает дом от негативной энер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ст смел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ит удач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т силу дух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0"/>
          <p:cNvSpPr/>
          <p:nvPr/>
        </p:nvSpPr>
        <p:spPr>
          <a:xfrm>
            <a:off x="4357800" y="19288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 - символ Солн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4"/>
          <p:cNvSpPr/>
          <p:nvPr/>
        </p:nvSpPr>
        <p:spPr>
          <a:xfrm>
            <a:off x="571680" y="207180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— символ долголе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5" descr="https://png.pngtree.com/png_detail/18/09/10/pngtree-vector-cherry-png-clipart_2165019.jpg"/>
          <p:cNvPicPr/>
          <p:nvPr/>
        </p:nvPicPr>
        <p:blipFill>
          <a:blip r:embed="rId3"/>
          <a:stretch/>
        </p:blipFill>
        <p:spPr>
          <a:xfrm>
            <a:off x="500040" y="2571840"/>
            <a:ext cx="1285920" cy="107136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17"/>
          <p:cNvSpPr/>
          <p:nvPr/>
        </p:nvSpPr>
        <p:spPr>
          <a:xfrm>
            <a:off x="428760" y="364320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ни — символ п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8" descr="https://content-16.foto.my.mail.ru/community/society2/_groupsphoto/h-28939.jpg"/>
          <p:cNvPicPr/>
          <p:nvPr/>
        </p:nvPicPr>
        <p:blipFill>
          <a:blip r:embed="rId4"/>
          <a:stretch/>
        </p:blipFill>
        <p:spPr>
          <a:xfrm>
            <a:off x="2928960" y="785880"/>
            <a:ext cx="1349280" cy="10713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9"/>
          <p:cNvSpPr/>
          <p:nvPr/>
        </p:nvSpPr>
        <p:spPr>
          <a:xfrm>
            <a:off x="2571840" y="192888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шиповника — символ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2"/>
          <p:cNvSpPr/>
          <p:nvPr/>
        </p:nvSpPr>
        <p:spPr>
          <a:xfrm>
            <a:off x="6072120" y="49212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лаки, боб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имвол достатка,  сытой жизни, благополуч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286000" y="40593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ква, семена тыкв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плодоро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4429080" y="378612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успех в де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7" descr="https://fermer.blog/media/res/1/2/2/6/3/12263.pfyz10.840.jpg"/>
          <p:cNvPicPr/>
          <p:nvPr/>
        </p:nvPicPr>
        <p:blipFill>
          <a:blip r:embed="rId5"/>
          <a:stretch/>
        </p:blipFill>
        <p:spPr>
          <a:xfrm>
            <a:off x="2428920" y="2928960"/>
            <a:ext cx="1760400" cy="11714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8" descr="https://agrobazar.ru/upload/iblock/4da/4dabc6a43167e83f51e880d511d70e32.jpg"/>
          <p:cNvPicPr/>
          <p:nvPr/>
        </p:nvPicPr>
        <p:blipFill>
          <a:blip r:embed="rId6"/>
          <a:stretch/>
        </p:blipFill>
        <p:spPr>
          <a:xfrm>
            <a:off x="6429240" y="3286080"/>
            <a:ext cx="1952640" cy="165096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24" descr="http://prikolnye-kartinki.ru/img/picture/Mar/28/9fd4738046b29c9bc132912877aec72e/5.jpg"/>
          <p:cNvPicPr/>
          <p:nvPr/>
        </p:nvPicPr>
        <p:blipFill>
          <a:blip r:embed="rId7"/>
          <a:stretch/>
        </p:blipFill>
        <p:spPr>
          <a:xfrm>
            <a:off x="571680" y="714240"/>
            <a:ext cx="157140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25" descr="https://avatars.mds.yandex.net/get-marketpic/228107/market_MBYuWSI4zxVGnXagI7ZG3A/orig"/>
          <p:cNvPicPr/>
          <p:nvPr/>
        </p:nvPicPr>
        <p:blipFill>
          <a:blip r:embed="rId8"/>
          <a:stretch/>
        </p:blipFill>
        <p:spPr>
          <a:xfrm>
            <a:off x="4500720" y="2428920"/>
            <a:ext cx="1428480" cy="13572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26" descr="https://domdekora.in.ua/wp-content/uploads/2015/09/42299-600x800.jpg"/>
          <p:cNvPicPr/>
          <p:nvPr/>
        </p:nvPicPr>
        <p:blipFill>
          <a:blip r:embed="rId9"/>
          <a:stretch/>
        </p:blipFill>
        <p:spPr>
          <a:xfrm>
            <a:off x="4714920" y="4286160"/>
            <a:ext cx="1028520" cy="14907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7"/>
          <p:cNvSpPr/>
          <p:nvPr/>
        </p:nvSpPr>
        <p:spPr>
          <a:xfrm>
            <a:off x="3214800" y="478620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о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имвол бога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23" descr="D:\Мои документы\всё\буквы подготовка\Сказочные персонажи\Сказочные персонажи\Копия bc054938d33e.jpg"/>
          <p:cNvPicPr/>
          <p:nvPr/>
        </p:nvPicPr>
        <p:blipFill>
          <a:blip r:embed="rId10"/>
          <a:stretch/>
        </p:blipFill>
        <p:spPr>
          <a:xfrm>
            <a:off x="785880" y="3929040"/>
            <a:ext cx="1500120" cy="1571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5"/>
          <p:cNvSpPr/>
          <p:nvPr/>
        </p:nvSpPr>
        <p:spPr>
          <a:xfrm>
            <a:off x="428760" y="5430960"/>
            <a:ext cx="257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ово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ранитель мира и покоя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958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2411280" y="1628640"/>
            <a:ext cx="4537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   УРОК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Picture 7" descr="422c4a45fa953ed113af57df1524b53b"/>
          <p:cNvPicPr/>
          <p:nvPr/>
        </p:nvPicPr>
        <p:blipFill>
          <a:blip r:embed="rId6"/>
          <a:stretch/>
        </p:blipFill>
        <p:spPr>
          <a:xfrm>
            <a:off x="755640" y="458136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422c4a45fa953ed113af57df1524b53b"/>
          <p:cNvPicPr/>
          <p:nvPr/>
        </p:nvPicPr>
        <p:blipFill>
          <a:blip r:embed="rId7"/>
          <a:stretch/>
        </p:blipFill>
        <p:spPr>
          <a:xfrm>
            <a:off x="7020000" y="494172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422c4a45fa953ed113af57df1524b53b"/>
          <p:cNvPicPr/>
          <p:nvPr/>
        </p:nvPicPr>
        <p:blipFill>
          <a:blip r:embed="rId8"/>
          <a:stretch/>
        </p:blipFill>
        <p:spPr>
          <a:xfrm>
            <a:off x="3995640" y="40464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422c4a45fa953ed113af57df1524b53b"/>
          <p:cNvPicPr/>
          <p:nvPr/>
        </p:nvPicPr>
        <p:blipFill>
          <a:blip r:embed="rId9"/>
          <a:stretch/>
        </p:blipFill>
        <p:spPr>
          <a:xfrm>
            <a:off x="900000" y="1628640"/>
            <a:ext cx="1209960" cy="1009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422c4a45fa953ed113af57df1524b53b"/>
          <p:cNvPicPr/>
          <p:nvPr/>
        </p:nvPicPr>
        <p:blipFill>
          <a:blip r:embed="rId10"/>
          <a:stretch/>
        </p:blipFill>
        <p:spPr>
          <a:xfrm>
            <a:off x="4140360" y="5373720"/>
            <a:ext cx="1209600" cy="1009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422c4a45fa953ed113af57df1524b53b"/>
          <p:cNvPicPr/>
          <p:nvPr/>
        </p:nvPicPr>
        <p:blipFill>
          <a:blip r:embed="rId11"/>
          <a:stretch/>
        </p:blipFill>
        <p:spPr>
          <a:xfrm>
            <a:off x="7308720" y="2060640"/>
            <a:ext cx="1209960" cy="1009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2740fe928c1f1a8e3da0b354ced8f9a1"/>
          <p:cNvPicPr/>
          <p:nvPr/>
        </p:nvPicPr>
        <p:blipFill>
          <a:blip r:embed="rId1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85520" y="785880"/>
            <a:ext cx="79009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рошлого и будущего нет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главный человечества зав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ть землю нашу берегут век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, кто зовется гордо казакам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с детства пусть запомнят наши дет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Родина - святей всего на свете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786960" y="1143000"/>
            <a:ext cx="2858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61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100160" y="549360"/>
            <a:ext cx="6943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5867280" y="5589720"/>
            <a:ext cx="18478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042920" y="692280"/>
            <a:ext cx="4815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 Е М А    З А Н Я Т И Я 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9"/>
          <p:cNvSpPr txBox="1"/>
          <p:nvPr/>
        </p:nvSpPr>
        <p:spPr>
          <a:xfrm>
            <a:off x="1835280" y="2708280"/>
            <a:ext cx="48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  О Б Е Р Е Г 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13920" y="850680"/>
            <a:ext cx="7000920" cy="34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 и задачи: </a:t>
            </a: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ивать любовь к народным казачьим традициям Кубан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635280" y="-1141200"/>
            <a:ext cx="518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357120" y="35712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4e8542"/>
                </a:solidFill>
                <a:latin typeface="Arial"/>
              </a:rPr>
              <a:t>ОБЕР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ерег, -а, м. (устар. и спец.).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едмет, оберегающий, охраняющий от чего-нибу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бере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орчи, от дурного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дк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д дверью - оберег дом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500120" y="571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олковый словарь  Да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1680" y="214200"/>
            <a:ext cx="7929360" cy="55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ере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- изделие из металла, камня, кожи, глины, кости или дерева, предназначенный для защиты его обладателя от вредоносного влияния, сглаза, порчи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берег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 может приносить победу, удачу, богатство, здоровь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Главное - правильно его подобрать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мните, что подаренный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ерег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 сильнее, чем просто купленны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780000" y="-642960"/>
            <a:ext cx="50400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357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Рисунок 5" descr="http://magspace.ru/uploads/2014/10/28/auto_16-21740_386737.jpeg"/>
          <p:cNvPicPr/>
          <p:nvPr/>
        </p:nvPicPr>
        <p:blipFill>
          <a:blip r:embed="rId1"/>
          <a:stretch/>
        </p:blipFill>
        <p:spPr>
          <a:xfrm>
            <a:off x="5786280" y="357120"/>
            <a:ext cx="3000600" cy="2214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https://cs2.livemaster.ru/storage/0e/d8/ab35790f8aa6d3a1e0ed80c707ys--russkij-stil-zheton-kazaka-bronzovyj.jpg"/>
          <p:cNvPicPr/>
          <p:nvPr/>
        </p:nvPicPr>
        <p:blipFill>
          <a:blip r:embed="rId2"/>
          <a:stretch/>
        </p:blipFill>
        <p:spPr>
          <a:xfrm>
            <a:off x="214200" y="285840"/>
            <a:ext cx="264348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http://slavtorg.org/wa-data/public/shop/products/72/13/1372/images/2155/2155.750x0.jpg"/>
          <p:cNvPicPr/>
          <p:nvPr/>
        </p:nvPicPr>
        <p:blipFill>
          <a:blip r:embed="rId3"/>
          <a:stretch/>
        </p:blipFill>
        <p:spPr>
          <a:xfrm>
            <a:off x="3143160" y="285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http://mednolit.ru/_fr/109/9324065.jpg"/>
          <p:cNvPicPr/>
          <p:nvPr/>
        </p:nvPicPr>
        <p:blipFill>
          <a:blip r:embed="rId4"/>
          <a:stretch/>
        </p:blipFill>
        <p:spPr>
          <a:xfrm>
            <a:off x="3143160" y="2357280"/>
            <a:ext cx="2581200" cy="2097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http://www.russia-open.com/files/2291/03.png"/>
          <p:cNvPicPr/>
          <p:nvPr/>
        </p:nvPicPr>
        <p:blipFill>
          <a:blip r:embed="rId5"/>
          <a:stretch/>
        </p:blipFill>
        <p:spPr>
          <a:xfrm>
            <a:off x="2357280" y="4572000"/>
            <a:ext cx="4286520" cy="18144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0" descr="https://cs2.livemaster.ru/storage/bb/a1/a5b1f31469e03a47dcb85e41cdah--russkij-stil-avtorskij-obereg-kazak-predok.jpg"/>
          <p:cNvPicPr/>
          <p:nvPr/>
        </p:nvPicPr>
        <p:blipFill>
          <a:blip r:embed="rId6"/>
          <a:stretch/>
        </p:blipFill>
        <p:spPr>
          <a:xfrm>
            <a:off x="6421320" y="2643120"/>
            <a:ext cx="243684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1" descr="https://xn----7sbcgncrekc6ag4bfexj3m.xn--p1ai/assets/images/products/90/dsc04604.jpg"/>
          <p:cNvPicPr/>
          <p:nvPr/>
        </p:nvPicPr>
        <p:blipFill>
          <a:blip r:embed="rId7"/>
          <a:stretch/>
        </p:blipFill>
        <p:spPr>
          <a:xfrm>
            <a:off x="357120" y="2928960"/>
            <a:ext cx="2214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885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11280" y="3681360"/>
            <a:ext cx="82087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6" descr="https://img0.liveinternet.ru/images/attach/c/5/88/954/88954702_454.jpg"/>
          <p:cNvPicPr/>
          <p:nvPr/>
        </p:nvPicPr>
        <p:blipFill>
          <a:blip r:embed="rId1"/>
          <a:stretch/>
        </p:blipFill>
        <p:spPr>
          <a:xfrm>
            <a:off x="357120" y="214200"/>
            <a:ext cx="3214800" cy="3929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https://stranamasterov.ru/img4/i2015/07/06/186859_dsc09064.jpg"/>
          <p:cNvPicPr/>
          <p:nvPr/>
        </p:nvPicPr>
        <p:blipFill>
          <a:blip r:embed="rId2"/>
          <a:stretch/>
        </p:blipFill>
        <p:spPr>
          <a:xfrm>
            <a:off x="5357880" y="214200"/>
            <a:ext cx="3522600" cy="32148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https://lugansk.slav-ceramic.com/wp-content/uploads/2018/08/6685-f1.jpg"/>
          <p:cNvPicPr/>
          <p:nvPr/>
        </p:nvPicPr>
        <p:blipFill>
          <a:blip r:embed="rId3"/>
          <a:stretch/>
        </p:blipFill>
        <p:spPr>
          <a:xfrm>
            <a:off x="3286080" y="714240"/>
            <a:ext cx="2571840" cy="30988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0" descr="https://avatars.mds.yandex.net/get-pdb/25978/2a720ba9-0e01-46a7-b56f-cfe482f95486/s1200"/>
          <p:cNvPicPr/>
          <p:nvPr/>
        </p:nvPicPr>
        <p:blipFill>
          <a:blip r:embed="rId4"/>
          <a:stretch/>
        </p:blipFill>
        <p:spPr>
          <a:xfrm>
            <a:off x="5214960" y="3257640"/>
            <a:ext cx="2881440" cy="360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1" descr="http://www.blackpantera.ru/upload/medialibrary/52e/Kak-sdelat-obereg.jpg"/>
          <p:cNvPicPr/>
          <p:nvPr/>
        </p:nvPicPr>
        <p:blipFill>
          <a:blip r:embed="rId5"/>
          <a:stretch/>
        </p:blipFill>
        <p:spPr>
          <a:xfrm>
            <a:off x="928800" y="3714840"/>
            <a:ext cx="31431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1029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252720" y="-171360"/>
            <a:ext cx="9396360" cy="702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508720" y="674640"/>
            <a:ext cx="30956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5" descr="https://fs00.infourok.ru/images/doc/318/317586/img8.jpg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6:54:27Z</dcterms:created>
  <dc:creator>Майя</dc:creator>
  <dc:description/>
  <dc:language>en-US</dc:language>
  <cp:lastModifiedBy>Админ</cp:lastModifiedBy>
  <dcterms:modified xsi:type="dcterms:W3CDTF">2019-03-17T16:11:28Z</dcterms:modified>
  <cp:revision>48</cp:revision>
  <dc:subject/>
  <dc:title>Слайд 1</dc:title>
</cp:coreProperties>
</file>